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5AF-A724-451E-8B3C-FA49CF9D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FBD-9468-4B10-8B4E-7672640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317AE-2AD8-4288-B823-81D1DEB8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B961C-6E20-4A28-9CF2-A56959D1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9A0CF-BCE7-455F-A73C-A7DDF93B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778FF-A940-4FF2-9E97-3FE32615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E6A88-79FE-49DA-94E8-6B4F58D3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0B1D9-9F52-4474-BD2A-CEEFA16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C90B3-0E37-4087-B0CA-D9ABD9B4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5A7E4-476A-450D-86AF-A8CD82FF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AE187-F5F6-4624-A79B-9067F88D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4BFF9-C3D0-419A-859E-6A0D2D1D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A23-B11E-4226-B9DF-02C68957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A9680-AD19-478D-8AFA-9A39811C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89DC15-5286-484B-BED1-0E531FA0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DE367-8AD8-4802-B272-A9491B01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976C5-DA37-431A-922D-B6C8DC8C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8DD1F-2637-418D-9A13-E00CBDC3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E5C4C-FB64-49F7-B6A9-364F8B94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2EB1E-D85C-466D-9195-49FC07E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71D69-297E-4E01-BFB6-854A0536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D81C0-A945-478B-871A-7B6397BA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F7A89B-4773-4C62-B0C8-790A31D8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660-6ECA-4969-B8AA-DA62E44B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99321-30F2-45CC-AA6B-F541EF78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7A553-1990-4987-BF49-954FDB75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65106-ACC2-4AF8-82A7-84CD96A0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E2654-1ABF-4D74-8785-3CE86760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562C3-A63E-434C-A736-B26C1AD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41502-74F2-4D25-B4BC-CCD90F83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264F1-7BAD-4AC5-A3BC-F6EE71A0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1177C-224E-4CF6-A3A9-ABB2A01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52998-9583-4BC9-8BD4-BDE123B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F05B5-B18A-4492-8BFB-661B0D4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F64E-FDDE-4B85-BAB5-81B7859D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B1B5-E968-4B10-AF23-0477670E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612D1-84B1-4023-BA40-0F5520C9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614B1-AAFB-4AD0-AAD5-0DEF1B98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79CF8-F04A-4364-926A-12A0926D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2A54A-4087-42F7-B74A-83DC9341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084A4-6A2D-4584-9745-E0DF0EEB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EB3CA-6BDA-4C3A-82C9-74A9127E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B0BF7-E89C-4CAA-B831-0D4D0396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EA145-D300-4494-B86F-9D9D990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B6070-1BC4-4EAB-B310-19AB59F8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BFDB-C6DD-4C70-9A12-27BEE295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3A3C2-EF34-401A-A8F7-A3196F61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8B9DE-5366-42F4-95E0-A34519C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C352F-6829-40A5-A837-2841C3A0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D263E-2249-4ED4-AF0F-073122D9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22E05-26C8-42C9-97A1-2A37BCB1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DB13-F0A2-462A-AEAE-980FD6B0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9882-ABD5-4881-AA8D-A4197C8F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B225-6208-496A-B318-6E9FBB27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8E55-31A1-4200-AE92-4EC66E32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9D52-5AE4-49AD-89FB-8D47167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A99-3CEB-47A0-9766-DA4D4D4A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ABDA-9D45-449C-B7A3-EBBF7B5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B2D1-08B4-48C2-8401-74AB7F18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EF95-B82C-4A8A-91E0-C23BE69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B0AB-1EC8-4EB7-94EF-888EFA66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F227-7173-4166-B31A-675FE1DA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5801-3AC6-46C2-B360-ED6AA90C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1398-846B-4028-852C-0F537016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C0DD-CCF2-48DC-8DA8-23492928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4A57-A09B-4508-8A49-5698E10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9613-58BB-4949-842E-C2520F78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6AC-0D45-44B9-B759-F158918B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5BFA-1CF1-450D-B2EC-40E72922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511E-10DD-40C1-9434-D0F522E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2684-829C-490C-B7B5-087949A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D4AC-87E1-409E-AE8D-C939663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BA4D-C2A0-4FD0-BCF4-F6C8F17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54A2-166A-46CF-B625-40FA0D19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E45B-16A5-418A-8621-7ACA2812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366D-5D21-4F10-80AE-7B406DA0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34E91-D78D-44F5-8500-C03A850A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8B96-D0BF-40E6-AE7E-1EE978A4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89D-7777-4163-AFBE-FB5AE7DF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DBA52-0B98-4B6E-BCB2-280E6288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18DD-D4FC-4957-86F1-E6EC008B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2318C-F5CB-4E03-A588-2A5CB4D1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03AFB-6805-4481-B089-240E46E7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2334A-1293-4C85-A2CD-BF54A86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D716-3917-4841-A14E-D1E14B73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D2E63-CFF6-4818-BD86-22E47559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8436-BE00-47F1-BAF5-3A8FD730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BC3D-E334-47BD-98AA-B6454E8F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5E849-2525-4967-8CA4-2FF31290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FB7-52CD-4DF0-9F76-517D275B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0F013-B7F0-4726-87E9-9A5A2459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F2B22-4E05-450D-9DD6-7D0F6317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2397F-9838-4547-9B35-4E2225A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C7DA-FFB7-46AF-887D-DB101F8C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C1F1C-A8E8-4D3C-B046-65260F74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7BBEE-90C3-4F03-A7BD-DADF2E3C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5196-D033-44C7-AD61-F8450DC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7ACB-E8F4-4E79-8AE6-7CD3F479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3E7DC-A564-4ED5-A07C-412314EE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88E02-475C-4B4D-8DAC-FF22DF25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DD5-8E6B-4B70-8EFB-EB38A511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BDCD-3BB8-4851-B5F7-CD60667B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C558D-8E25-40EF-B72F-20DCAA38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96D3-A6BD-4400-B8C2-A65BB1F3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C17E-3077-43CC-BB1F-E96927C4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47815-3627-4CAB-ABB1-0DE5494B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D6165-6FEF-44DC-A440-0D69CF9D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E025C-485A-4ECD-A49F-23CD836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E139C-62E1-46DE-8DBE-40DE97A6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FAB7-93CD-4F45-BA7C-58925F5D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CC104-9351-4D9E-A518-B18B59C1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C02-3608-4549-90AB-CFA52605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0FD4A-F548-4A1D-B87F-DFBFD533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AC80F-BC1E-45C5-80FE-21936F11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3023B-6CC8-4DCB-8C69-5CC62E09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222A4-9D01-4EF8-919D-27B8C480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F0EB9-D959-4975-8400-C2BEFD0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1591E-DBEF-45B0-967C-81CE117F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CAC56-2212-4672-94D4-D1292F31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5F943-FD38-45EF-9D9C-D3253E18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3767-0E35-48A1-B15F-3E535BE0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E9678-D922-4311-A2CD-9930274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728-C00B-4AED-8552-EA69164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1A8FC-2A6A-4046-A1EF-7A8CE60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37290-A55A-40C8-9FC0-F73A2EF2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BB20F-82B5-4E71-9793-8587727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BEF9A-8F8F-4F91-820A-21E3F68F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6F44-3876-4192-82DA-EB2E4C8F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9145-3C4D-4610-9487-217FC174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34A26-3B2E-4D51-A45E-2A85889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C6B86-E184-4DBF-BC03-EBF1EF99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70133-0AA6-4AE4-94C1-8A0B8E87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AB88-8201-4C1B-839A-8B400FA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47A-5B27-4237-9C54-667BB772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C117E-546B-4392-8BC0-C23D7294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CA036-1F17-4052-B840-E6EC639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043A-298E-48BE-A256-91C94CD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B0C24-2A5C-4361-ADB5-D7B3585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90EE3-CB8A-438B-8E88-A8C80284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3068C-A5DD-4E83-ABD2-57FC3786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C7E5-0ACD-4C69-B22D-952D5A8D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DAEF8-7B56-4974-AC40-24C997A8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EA198-D1BF-4D27-B99C-BACAD851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41B71-443B-4E35-92F9-BD59444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40F3-B49D-4748-B76E-A6FA867102C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ED50-0778-4B83-B92A-C042EC51DAC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E07E-1ECA-4AEA-9588-B6698526813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3771-A805-440F-88EB-F94C3444EA8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C8F7-CFA8-4133-AC35-6C04BA50B25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7B7E-9566-4188-BF2E-AEE55242B36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437C-8397-4BC1-A1E2-6ECFFBAA679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B3D3-C6ED-4234-A285-135B592B23A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2FA1-5D52-499E-ABDF-74845B8D01A9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D835-B79C-4127-9180-D920E5267EED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68BA-BE5D-4A3B-A4E7-BD4F692FCE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69CF-4000-43EE-A97E-46257F73853A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Investigation of Tribological and Mechanical properties of Metal Bearings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914400" y="1523880"/>
          <a:ext cx="6858000" cy="1177920"/>
        </p:xfrm>
        <a:graphic>
          <a:graphicData uri="http://schemas.openxmlformats.org/drawingml/2006/table">
            <a:tbl>
              <a:tblPr/>
              <a:tblGrid>
                <a:gridCol w="1170000"/>
                <a:gridCol w="708120"/>
                <a:gridCol w="1224000"/>
                <a:gridCol w="1011240"/>
                <a:gridCol w="866520"/>
                <a:gridCol w="938160"/>
                <a:gridCol w="93996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E 1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533520" y="3581280"/>
          <a:ext cx="7391160" cy="2527560"/>
        </p:xfrm>
        <a:graphic>
          <a:graphicData uri="http://schemas.openxmlformats.org/drawingml/2006/table">
            <a:tbl>
              <a:tblPr/>
              <a:tblGrid>
                <a:gridCol w="1066680"/>
                <a:gridCol w="557280"/>
                <a:gridCol w="560160"/>
                <a:gridCol w="560520"/>
                <a:gridCol w="639720"/>
                <a:gridCol w="561960"/>
                <a:gridCol w="631800"/>
                <a:gridCol w="631800"/>
                <a:gridCol w="561960"/>
                <a:gridCol w="561960"/>
                <a:gridCol w="567000"/>
                <a:gridCol w="49032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Sn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uZn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CuM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nPbCu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Rectangle 1"/>
          <p:cNvSpPr/>
          <p:nvPr/>
        </p:nvSpPr>
        <p:spPr>
          <a:xfrm>
            <a:off x="276120" y="16200"/>
            <a:ext cx="72216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TABLE 1. Chemical composition of Journal Materials (Wt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 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TABLE 2. Chemical composition of Bearing Materials (Wt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Operating cond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aring specim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ner diameter – 10+0.05 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dth 10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uter diameter 15 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losses measured un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ubricated conditions of 20 N l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500 rpm 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0.785 m/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me interval of 30 min(7065 m sliding distanc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E 90 Gear oi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Apparatus us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adial journal bearing wear test ri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crostructures of wear surfaces -optical and scanning electron microsco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ŞA type tensile test ri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ness SADT HARTIP-3000 ty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70c0"/>
                </a:solidFill>
                <a:latin typeface="Georgia"/>
              </a:rPr>
              <a:t>SADT HARDNESS TESTER HARTIP 300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TIP 3000 is an advanced hand-held digital metal hardness tester ,high   accuracy, wide measuring range  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sily operat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rdness of all metals -large structure/assembled component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4" descr="F:\tribology\LLLLLLLOOOOOOOOKKKKKKKEEEEEEE\993.jpg"/>
          <p:cNvPicPr/>
          <p:nvPr/>
        </p:nvPicPr>
        <p:blipFill>
          <a:blip r:embed="rId1"/>
          <a:stretch/>
        </p:blipFill>
        <p:spPr>
          <a:xfrm>
            <a:off x="4952880" y="3886200"/>
            <a:ext cx="3981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1320" y="1527120"/>
            <a:ext cx="8504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asuring principle- the quotient of th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act body's rebound and impact velocity, multiplied by 1000."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ngsten Carbide test tip is propelled by spring force against the test surf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permanent magnet is contained within the impact bo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it passes through the coil on impact de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uces an electric voltage which is proportional to the velocity of the impact bod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70c0"/>
                </a:solidFill>
                <a:latin typeface="Georgia"/>
              </a:rPr>
              <a:t>SADT HARDNESS TESTER HARTIP 3000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70c0"/>
                </a:solidFill>
                <a:latin typeface="Georgia"/>
              </a:rPr>
              <a:t>KEY FEATUR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st in any dir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accu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ght we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metallic materi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 impact devices interchange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nu oper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ta management softwa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y to standard ASTM A95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F:\tribology\LLLLLLLOOOOOOOOKKKKKKKEEEEEEE\productlist.asp_files\Hartip3000.jpg"/>
          <p:cNvPicPr/>
          <p:nvPr/>
        </p:nvPicPr>
        <p:blipFill>
          <a:blip r:embed="rId1"/>
          <a:stretch/>
        </p:blipFill>
        <p:spPr>
          <a:xfrm>
            <a:off x="6019920" y="1371600"/>
            <a:ext cx="2971800" cy="3048120"/>
          </a:xfrm>
          <a:prstGeom prst="rect">
            <a:avLst/>
          </a:prstGeom>
          <a:ln w="9360">
            <a:solidFill>
              <a:srgbClr val="1e1c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adial Journal bearing wear test ri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Comparator.2. Rigid bar.3. Load contact point (rolling bearing).4. Journal sample.5. Journal bearing samples.6. Plate bar.7. Motor.8. Loa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Picture 2" descr="C:\Documents and Settings\Administrator\Desktop\fig 1.jpg"/>
          <p:cNvPicPr/>
          <p:nvPr/>
        </p:nvPicPr>
        <p:blipFill>
          <a:blip r:embed="rId1"/>
          <a:stretch/>
        </p:blipFill>
        <p:spPr>
          <a:xfrm>
            <a:off x="457200" y="3048120"/>
            <a:ext cx="7696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adial journal bearing wear test ri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ystem formed b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ight applied by rigid b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eel bar connected to the bearing from a d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at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nsile spring connected opposite side to comparator k=0.04N/m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Result and discus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b0f0"/>
                </a:solidFill>
                <a:latin typeface="Georgia"/>
              </a:rPr>
              <a:t>SURFACE ROUGHNESS PROPER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alues of CuSn10 and CuZn30 decre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other bearings increased after wear t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Documents and Settings\Administrator\Desktop\UntitleZZZd.png"/>
          <p:cNvPicPr/>
          <p:nvPr/>
        </p:nvPicPr>
        <p:blipFill>
          <a:blip r:embed="rId1"/>
          <a:stretch/>
        </p:blipFill>
        <p:spPr>
          <a:xfrm>
            <a:off x="228600" y="2286000"/>
            <a:ext cx="8381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Wear 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9" name="Picture 2" descr="D:\TRIBOLOGYYYYYYYYYY\New Folder\rscale\fig 2 RESCALE.png"/>
          <p:cNvPicPr/>
          <p:nvPr/>
        </p:nvPicPr>
        <p:blipFill>
          <a:blip r:embed="rId1"/>
          <a:stretch/>
        </p:blipFill>
        <p:spPr>
          <a:xfrm>
            <a:off x="380880" y="1523880"/>
            <a:ext cx="7086600" cy="410364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3"/>
          <p:cNvSpPr/>
          <p:nvPr/>
        </p:nvSpPr>
        <p:spPr>
          <a:xfrm>
            <a:off x="209880" y="28440"/>
            <a:ext cx="83174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2. Friction coefficient-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0f0"/>
                </a:solidFill>
                <a:latin typeface="Georgia"/>
              </a:rPr>
              <a:t>           </a:t>
            </a:r>
            <a:r>
              <a:rPr b="1" lang="en-US" sz="3500" spc="-1" strike="noStrike">
                <a:solidFill>
                  <a:srgbClr val="00b0f0"/>
                </a:solidFill>
                <a:latin typeface="Georgia"/>
              </a:rPr>
              <a:t>Introductio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 , Aluminium and Lead-common journal bearing materi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onze and Brass- Copper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amacs - Zinc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uralumines - Aluminium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te metals- Tin lead based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sent study- Tribological and mechanical properties of these journal bearings material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D:\TRIBOLOGYYYYYYYYYY\New Folder\rscale\fig 3.png"/>
          <p:cNvPicPr/>
          <p:nvPr/>
        </p:nvPicPr>
        <p:blipFill>
          <a:blip r:embed="rId1"/>
          <a:stretch/>
        </p:blipFill>
        <p:spPr>
          <a:xfrm>
            <a:off x="380880" y="457200"/>
            <a:ext cx="4924440" cy="28576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D:\TRIBOLOGYYYYYYYYYY\New Folder\rscale\fig 4.png"/>
          <p:cNvPicPr/>
          <p:nvPr/>
        </p:nvPicPr>
        <p:blipFill>
          <a:blip r:embed="rId2"/>
          <a:stretch/>
        </p:blipFill>
        <p:spPr>
          <a:xfrm>
            <a:off x="457200" y="3733920"/>
            <a:ext cx="5133960" cy="290484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5"/>
          <p:cNvSpPr/>
          <p:nvPr/>
        </p:nvSpPr>
        <p:spPr>
          <a:xfrm>
            <a:off x="0" y="167760"/>
            <a:ext cx="8991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3. Temperature–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4. Wear losses bearing–time variation of metal b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D:\TRIBOLOGYYYYYYYYYY\New Folder\rscale\fig 5.png"/>
          <p:cNvPicPr/>
          <p:nvPr/>
        </p:nvPicPr>
        <p:blipFill>
          <a:blip r:embed="rId1"/>
          <a:stretch/>
        </p:blipFill>
        <p:spPr>
          <a:xfrm>
            <a:off x="1219320" y="457200"/>
            <a:ext cx="4943520" cy="29336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1143000" y="3954600"/>
            <a:ext cx="5257800" cy="290340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0" y="16884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 Black"/>
                <a:ea typeface="Calibri"/>
              </a:rPr>
              <a:t>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5. Wear losses journal–time variation of metal bea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6. Comparison of wear rates of bear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Mechanical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echanical properties Bronze, Brass and Duralumin bearing materials occurred GREATER than Zamac and Tin–lead based white metal bearing material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rdness of all specimens 100 HB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9" name="Picture 2" descr="D:\TRIBOLOGYYYYYYYYYY\New Folder\Ussssssssntitled.png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Microstructure proper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cimens examined under optical and scanning electron microscop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D:\TRIBOLOGYYYYYYYYYY\New Folder\fig 7.png"/>
          <p:cNvPicPr/>
          <p:nvPr/>
        </p:nvPicPr>
        <p:blipFill>
          <a:blip r:embed="rId1"/>
          <a:stretch/>
        </p:blipFill>
        <p:spPr>
          <a:xfrm>
            <a:off x="380880" y="2514600"/>
            <a:ext cx="8325000" cy="28954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0" y="29520"/>
            <a:ext cx="8991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 Black"/>
                <a:ea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Figure 7. Microstructure of wear surfaces of metal bea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Bodoni MT Black"/>
                <a:ea typeface="Calibri"/>
              </a:rPr>
              <a:t>(a) CuSn10, (b) CuZn30,(c) ZnAl, (d) AlCuMg2 and (e) SnPbCuSb (× 1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Bodoni MT Black"/>
              </a:rPr>
              <a:t>Figure 8. SEM microstructure of wear surface of metal bearings: (a) CuSn10, (b) CuZn30, (c) ZnAl, (d) AlCuMg2 and (e) SnPbCuSb (× 1000</a:t>
            </a:r>
            <a:r>
              <a:rPr b="0" lang="en-US" sz="1800" spc="-1" strike="noStrike">
                <a:solidFill>
                  <a:srgbClr val="00b0f0"/>
                </a:solidFill>
                <a:latin typeface="Bodoni MT Black"/>
              </a:rPr>
              <a:t>).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Content Placeholder 3" descr="D:\TRIBOLOGYYYYYYYYYY\fig 8.png"/>
          <p:cNvPicPr/>
          <p:nvPr/>
        </p:nvPicPr>
        <p:blipFill>
          <a:blip r:embed="rId1"/>
          <a:stretch/>
        </p:blipFill>
        <p:spPr>
          <a:xfrm>
            <a:off x="533520" y="1447920"/>
            <a:ext cx="746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b0f0"/>
                </a:solidFill>
                <a:latin typeface="Bodoni MT Black"/>
              </a:rPr>
              <a:t>Figure 9. SEM microstructure of tensile fracture surface of metal bearing materials: (a) CuSn10, (b) CuZn30, (c) ZnAl, (d) AlCuMg2 and (e) SnPbCuSb (× 500).</a:t>
            </a:r>
            <a:br>
              <a:rPr sz="3000"/>
            </a:b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D:\TRIBOLOGYYYYYYYYYY\fig 9.png"/>
          <p:cNvPicPr/>
          <p:nvPr/>
        </p:nvPicPr>
        <p:blipFill>
          <a:blip r:embed="rId1"/>
          <a:stretch/>
        </p:blipFill>
        <p:spPr>
          <a:xfrm>
            <a:off x="457200" y="1371600"/>
            <a:ext cx="74674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Conclu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st wear values of surface roughness decreased in CuSn10 and CuZn30 and increased in other bearing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highest friction coefficient and bearing temperature occurred in CuSn10 and CuZn30 bearin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west friction coefficient and bearing weight loss occurred in other ZnAl, AlCuMg2 and SnPbCuSb bearing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highest journal weight loss occurred at CuZn30 and AlCuMg2 bearing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highest bearing wear rate occurred in CuSn10and CuZn30 bearing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Lowest bearing wear rate occurred in ZnAl bearing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 mechanical properties of CuSn10, CuZn30 and AlCuMg2 bearing materials were better than those of ZnAl, and SnPbCuSb bearing material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Reference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s of lubricants on the properties of copper-tin powders and compacts, Advances in P/M, Proc. Of PM conf., APMI, N. Jersey, pp 303–3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sign of radial journal bearing wear test rig, Conference of Mach. Mater. and Technol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uidelines for designing zinc alloy bearings— a technical manual, Soc. Auto Eng., Paper no: 880289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story of Tribology (London: Profes. Eng. Pub.), p. 76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vestigation of Tribological properties Zn–Al based journal bearings, Master thesis, Karadeniz Technical University, Trabzon, Turkey (in Turkish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Tribolo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ience and technology of interacting surfaces in relative motion and of related sub and practi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als wit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chnology of lubr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prevention of surfaces having relative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main constituent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ases service life of machine el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Historical backgrou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rlier Wood Iron and Sk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ter Brass and Bronz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urrently Aluminium and Zinc based materia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chnological improvements Self-lubricated sintered bearings –continuous lubrication impossi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fore its essential bearing materials be chosen depending upon area of appl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resistance most important property that journal bearings materials must pos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Types of journal bearing materials and their properties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gh thermal and Electrical conductivity, self Lubricating property, Good corrosion and Wear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pper based tin bronze- High wear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ction and wear properties can be improved by adding tin-Tin Bronze (90% Cu 10% S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n Bronze- Corrosive condition, High temperature and loa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Zinc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Zinc based alloys -world war II as compensate for copper deficiency in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ibological and mechanical properties improv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t treat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ition of Mn,Si,and C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w cost, Good Physical Tribological and mechanical properties and wear resista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Aluminium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where corrosion is probl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ar resistance of Si added Al is greater than Al allo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od Castability , Thermal conductivity and welda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Georgia"/>
              </a:rPr>
              <a:t>Lead and tin based allo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ti friction proper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duced by casting and spray depos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rmetallic pha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 seizure and Good wear resista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Georgia"/>
              </a:rPr>
              <a:t>Preparation of Experimental Material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91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ournal Bearing Materi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Sn10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onz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Zn30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a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nAl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ZAMA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CuMg2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uralum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PbCuSb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 met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ft(journal)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E 105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6:03:05Z</dcterms:created>
  <dc:creator>Mechanical Engineering Project</dc:creator>
  <dc:description/>
  <dc:language>en-US</dc:language>
  <cp:lastModifiedBy>Brigade</cp:lastModifiedBy>
  <dcterms:modified xsi:type="dcterms:W3CDTF">2011-08-09T04:45:54Z</dcterms:modified>
  <cp:revision>0</cp:revision>
  <dc:subject/>
  <dc:title>Mechanical Engineering Project</dc:title>
</cp:coreProperties>
</file>